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6A54-68EB-40DC-836C-3DC75306615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82AC-F7A4-47C3-873E-ED48D52B58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1230-D829-4CD6-802F-5B09C2E69B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In the intestin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Calibri"/>
              </a:rPr>
              <a:t>1, 25-DHCC bind to vitamin D receptors forming a complex that binds to the vitamin D response element upstream of the transcription start site of vitamin D influenced genes causing enhancing gene transcription of genes of calcium transport from intestinal lumen (calcium absorption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Calibri"/>
                <a:ea typeface="Calibri"/>
              </a:rPr>
              <a:t>In the </a:t>
            </a:r>
            <a:r>
              <a:rPr b="1" lang="en-US" sz="12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bon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Calibri"/>
              </a:rPr>
              <a:t>1, 25-DHCC stimulates terminal differentiation of osteoclasts precursors to osteoclas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Calibri"/>
              </a:rPr>
              <a:t>&amp; also stimulates osteoblasts to influence osteoclasts to mobilize bone calc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Calibri"/>
              </a:rPr>
              <a:t>1, 25-DHCC does not directly affect mature osteoclastic physi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0498-1CDF-4EFB-AC8E-3749985404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7AD2-EFC5-4F0A-9268-7119322EFE8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7A1F-B6ED-4E7E-BC57-3D76A902AA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Blood PTH in primary hyperparathyroidism may be 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Calibri"/>
              </a:rPr>
              <a:t>INAPPROPRIATELY NORMAL 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as hypercalcemia tries to suppress NORMAL PARATHYROID TISSUES in an attempt to restore normal calcium leve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73B7-0BDC-46C0-AB40-874BB3DA44B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68A0-F1F0-4604-AE19-C5BB4874A9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AEA0-F1E7-4781-848A-7E23D0222B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91EE-BECA-4714-BEED-29809598E5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AFF1-865C-44B0-8960-49CB088D7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ACA5-3C18-468D-B24F-DD0527CB0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e4778"/>
                </a:solidFill>
                <a:latin typeface="Calibri"/>
              </a:rPr>
              <a:t>Calcium is the most prevalent mineral in the body where a 70 Kg adult about 1Kg of calcium is present , where 99% is present in bone mainly, while 1% is present in tissues and body flu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C755-66B5-40FC-A8E0-613EEFBAA7E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ologically, calcium is classified as either extracellular or intracellular. The skeleton is a major reservoir for providing calcium for both the exracellular and the intracellular p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07AF-B6FC-4836-BACC-A0A31750851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onized fraction is the biologically active fr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2FED-6780-4DE3-A31C-41C6F14CAE2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The concentration of calcium, phosphorous  &amp; magnesium in the plasma depend on </a:t>
            </a:r>
            <a:r>
              <a:rPr b="1" lang="en-US" sz="1200" spc="-1" strike="noStrike" u="sng">
                <a:solidFill>
                  <a:srgbClr val="1e4778"/>
                </a:solidFill>
                <a:uFillTx/>
                <a:latin typeface="Calibri"/>
              </a:rPr>
              <a:t>ORGAN PHYSIOLOGY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Net effect of </a:t>
            </a:r>
            <a:r>
              <a:rPr b="1" lang="en-US" sz="1200" spc="-1" strike="noStrike" u="sng">
                <a:solidFill>
                  <a:srgbClr val="002060"/>
                </a:solidFill>
                <a:uFillTx/>
                <a:latin typeface="Calibri"/>
              </a:rPr>
              <a:t>bone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mineral deposition &amp; resorp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 u="sng">
                <a:solidFill>
                  <a:srgbClr val="002060"/>
                </a:solidFill>
                <a:uFillTx/>
                <a:latin typeface="Calibri"/>
              </a:rPr>
              <a:t>Intestinal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absor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200" spc="-1" strike="noStrike" u="sng">
                <a:solidFill>
                  <a:srgbClr val="002060"/>
                </a:solidFill>
                <a:uFillTx/>
                <a:latin typeface="Calibri"/>
              </a:rPr>
              <a:t>Renal</a:t>
            </a: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 excre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43A1-70B2-44D7-AED1-B1A3C70EEE5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EA63-6EA1-4D0B-88FD-4D9D4431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F4EF-1003-4575-BE93-C090A3BE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31BD-0AB6-445C-874A-E9D2E4BD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767-D037-4D1B-A13C-B9C7BCED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CF77-9619-447D-9F7A-127880ADE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B00B-7359-4023-A360-64E29568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C393-6372-4B83-AC8E-56E9D7F5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4C2A-A72B-47F8-8F57-11AE1CF6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2BFD-EAB1-4CED-97F1-4798C717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E90E-A147-43A5-A240-240FB63C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EF43-8E85-40AA-BE61-8C21F651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8BBE-0F6C-4112-9588-4414DD6AA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18FA-95CE-46D1-A2A9-C5CC55FE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FB8B-9426-4B1E-96E1-9602995A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7A8D-DFB1-46D0-91B9-7F312026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8788-0ADE-418C-BC55-11FA640F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5B1A-0A7A-4C57-BE96-37B132A4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D1A35-541A-42DC-A1BE-27EEC76E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701CC-82C4-4414-AEA2-A503E7BE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F7FA4-53BE-46EF-9CE2-EE6B5886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5D7A4-4C93-4082-8E37-567F349D5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6F24F-7F3E-407D-A072-00178035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492D-EBFC-4773-A8ED-CDEED654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4C25A-3A73-491A-BD5D-7C08EC0F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CBE4E-72D3-4EF2-9553-85F20822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4316E-5062-4E1F-A8B5-7AA6B54E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75BDC-973D-4DC9-B4D2-E2A16645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D1A77-0430-40A2-9BE8-D1CFC5AB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5BB61-4F62-4873-A6B9-44ECE63B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6CA96-1D54-41CA-8CD5-F0864F7C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B321-DC32-4942-852F-E7CCD03F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4FAB-FEAE-4904-8048-380F8ED3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5F8C-A6C5-4179-B708-9638515D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6B89-A024-41B2-A11D-987E0A70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EFB3-78B0-4CA0-81C4-B4C0E25E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D9D7-0E69-4B09-BC13-89FB5BE7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D873-312C-4544-AA87-324493899D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80D5-F2DC-4F05-8227-40D3E33D03B3}" type="slidenum">
              <a:rPr b="0" lang="ar-EG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0F94-DC35-4314-9B68-9C902FFB812A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3/Illu_thyroid_parathyroid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752480"/>
            <a:ext cx="8381880" cy="32004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ff0000"/>
                </a:solidFill>
                <a:latin typeface="Cambria Math"/>
                <a:ea typeface="Calibri"/>
              </a:rPr>
              <a:t>Calcium Metabolism,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ambria Math"/>
                <a:ea typeface="Calibri"/>
              </a:rPr>
              <a:t>Homeostasis 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ambria Math"/>
                <a:ea typeface="Calibri"/>
              </a:rPr>
              <a:t>&amp;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ambria Math"/>
                <a:ea typeface="Calibri"/>
              </a:rPr>
              <a:t>Related Diseases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4"/>
          <p:cNvSpPr/>
          <p:nvPr/>
        </p:nvSpPr>
        <p:spPr>
          <a:xfrm>
            <a:off x="380880" y="2362320"/>
            <a:ext cx="2438640" cy="3283560"/>
          </a:xfrm>
          <a:prstGeom prst="rightArrow">
            <a:avLst>
              <a:gd name="adj1" fmla="val 50000"/>
              <a:gd name="adj2" fmla="val 40144"/>
            </a:avLst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MS PGothic"/>
              </a:rPr>
              <a:t>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MS PGothic"/>
              </a:rPr>
              <a:t>[Ca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  <a:ea typeface="MS PGothic"/>
              </a:rPr>
              <a:t>2+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MS PGothic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MS PGothic"/>
              </a:rPr>
              <a:t>is Regulated 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2971800" y="2223720"/>
            <a:ext cx="5791320" cy="317232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636480" indent="-457200">
              <a:lnSpc>
                <a:spcPct val="100000"/>
              </a:lnSpc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Parathyroid Hormo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(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PTH</a:t>
            </a:r>
            <a:r>
              <a:rPr b="1" lang="en-US" sz="2000" spc="-1" strike="noStrike">
                <a:solidFill>
                  <a:srgbClr val="1e4778"/>
                </a:solidFill>
                <a:latin typeface="Arial"/>
                <a:ea typeface="MS P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buClr>
                <a:srgbClr val="1e47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Active Vitamin D</a:t>
            </a:r>
            <a:r>
              <a:rPr b="1" lang="en-US" sz="2000" spc="-1" strike="noStrike">
                <a:solidFill>
                  <a:srgbClr val="1e4778"/>
                </a:solidFill>
                <a:latin typeface="Arial"/>
                <a:ea typeface="MS PGothic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(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Calcitriol</a:t>
            </a:r>
            <a:r>
              <a:rPr b="1" lang="en-US" sz="2000" spc="-1" strike="noStrike">
                <a:solidFill>
                  <a:srgbClr val="1e4778"/>
                </a:solidFill>
                <a:latin typeface="Arial"/>
                <a:ea typeface="MS PGothic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or 1,25 DHC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buClr>
                <a:srgbClr val="1e47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MS PGothic"/>
              </a:rPr>
              <a:t>Calcitonin</a:t>
            </a:r>
            <a:r>
              <a:rPr b="1" lang="en-US" sz="2000" spc="-1" strike="noStrike">
                <a:solidFill>
                  <a:srgbClr val="1e4778"/>
                </a:solidFill>
                <a:latin typeface="Arial"/>
                <a:ea typeface="MS PGothic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MS PGothic"/>
              </a:rPr>
              <a:t>Hormone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MS P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90000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Rectangle 3" descr=""/>
          <p:cNvPicPr/>
          <p:nvPr/>
        </p:nvPicPr>
        <p:blipFill>
          <a:blip r:embed="rId1"/>
          <a:stretch/>
        </p:blipFill>
        <p:spPr>
          <a:xfrm>
            <a:off x="378000" y="603360"/>
            <a:ext cx="793728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144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Vitamin 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A group of sterols with a hormone-like func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rtl="1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e47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4778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Sources of Vitamin 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778"/>
                </a:solidFill>
                <a:latin typeface="Calibri"/>
                <a:ea typeface="Calibri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1-  Skin synthesis (On Exposure to Sun Lights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778"/>
                </a:solidFill>
                <a:latin typeface="Calibri"/>
                <a:ea typeface="Calibri"/>
              </a:rPr>
              <a:t>       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In the skin,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7 dehydrocholesterol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is converted to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vitamin D3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by exposure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778"/>
                </a:solidFill>
                <a:latin typeface="Calibri"/>
                <a:ea typeface="Calibri"/>
              </a:rPr>
              <a:t>       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sunl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778"/>
                </a:solidFill>
                <a:latin typeface="Calibri"/>
                <a:ea typeface="Calibri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2- Die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778"/>
                </a:solidFill>
                <a:latin typeface="Calibri"/>
                <a:ea typeface="Calibri"/>
              </a:rPr>
              <a:t>       </a:t>
            </a:r>
            <a:r>
              <a:rPr b="1" lang="en-US" sz="1800" spc="-1" strike="noStrike">
                <a:solidFill>
                  <a:srgbClr val="1e4778"/>
                </a:solidFill>
                <a:latin typeface="Calibri"/>
                <a:ea typeface="Calibri"/>
              </a:rPr>
              <a:t>-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Animal Source Cholecalciferol  (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Vitamins D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      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- Plant Source:   Ergocalciferol  (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Vitamin D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        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Vitamin D2 &amp; D3 are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NOT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biologically a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778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Activation of cholecalciferol</a:t>
            </a:r>
            <a:r>
              <a:rPr b="1" lang="en-US" sz="2000" spc="-1" strike="noStrike">
                <a:solidFill>
                  <a:srgbClr val="1e4778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vitamin D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778"/>
                </a:solidFill>
                <a:latin typeface="Calibri"/>
                <a:ea typeface="Calibri"/>
              </a:rPr>
              <a:t>      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Cholecalciferol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  (Vitamin D3) is activated in the body to the biologically ac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      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form by two hydroxylations: first in the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liver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  (at position 25) by 25 hydroxyla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     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&amp; then in the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kidney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 at positions 1 by 1 </a:t>
            </a:r>
            <a:r>
              <a:rPr b="1" lang="el-GR" sz="1800" spc="-1" strike="noStrike">
                <a:solidFill>
                  <a:srgbClr val="000099"/>
                </a:solidFill>
                <a:latin typeface="Calibri"/>
                <a:ea typeface="Calibri"/>
              </a:rPr>
              <a:t>α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 hydroxyl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Active Vitamin 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778"/>
                </a:solidFill>
                <a:latin typeface="Calibri"/>
                <a:ea typeface="Calibri"/>
              </a:rPr>
              <a:t>     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1, 25 dihydroxycholecalciferol  (Calcitriol  or DHC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778"/>
                </a:solidFill>
                <a:latin typeface="Calibri"/>
                <a:ea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28_22modified"/>
          <p:cNvPicPr/>
          <p:nvPr/>
        </p:nvPicPr>
        <p:blipFill>
          <a:blip r:embed="rId1"/>
          <a:stretch/>
        </p:blipFill>
        <p:spPr>
          <a:xfrm>
            <a:off x="609480" y="838080"/>
            <a:ext cx="4191120" cy="5724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8"/>
          <p:cNvSpPr/>
          <p:nvPr/>
        </p:nvSpPr>
        <p:spPr>
          <a:xfrm>
            <a:off x="5334120" y="838080"/>
            <a:ext cx="2514600" cy="884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itamin D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477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e4778"/>
                </a:solidFill>
                <a:latin typeface="Arial"/>
              </a:rPr>
              <a:t>plant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5410080" y="3200400"/>
            <a:ext cx="2438640" cy="1617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itamin D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778"/>
                </a:solidFill>
                <a:latin typeface="Arial"/>
              </a:rPr>
              <a:t>animal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77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e4778"/>
                </a:solidFill>
                <a:latin typeface="Arial"/>
              </a:rPr>
              <a:t>fatty 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778"/>
                </a:solidFill>
                <a:latin typeface="Arial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778"/>
                </a:solidFill>
                <a:latin typeface="Arial"/>
              </a:rPr>
              <a:t>egg yo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5423760" y="5791320"/>
            <a:ext cx="25048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-dehydrocholeste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e4778"/>
                </a:solidFill>
                <a:uFillTx/>
                <a:latin typeface="Arial"/>
              </a:rPr>
              <a:t>In the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6"/>
          <p:cNvSpPr/>
          <p:nvPr/>
        </p:nvSpPr>
        <p:spPr>
          <a:xfrm>
            <a:off x="5259960" y="2286000"/>
            <a:ext cx="26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ET VITAMINs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7"/>
          <p:cNvSpPr/>
          <p:nvPr/>
        </p:nvSpPr>
        <p:spPr>
          <a:xfrm>
            <a:off x="609480" y="228600"/>
            <a:ext cx="72392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SOURCES OF VITAMIN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Up Arrow 18"/>
          <p:cNvSpPr/>
          <p:nvPr/>
        </p:nvSpPr>
        <p:spPr>
          <a:xfrm>
            <a:off x="6019920" y="1752480"/>
            <a:ext cx="1066680" cy="4572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own Arrow 19"/>
          <p:cNvSpPr/>
          <p:nvPr/>
        </p:nvSpPr>
        <p:spPr>
          <a:xfrm>
            <a:off x="6019920" y="2743200"/>
            <a:ext cx="106668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Up Arrow 20"/>
          <p:cNvSpPr/>
          <p:nvPr/>
        </p:nvSpPr>
        <p:spPr>
          <a:xfrm>
            <a:off x="6172200" y="4952880"/>
            <a:ext cx="1066680" cy="762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1"/>
          <p:cNvSpPr/>
          <p:nvPr/>
        </p:nvSpPr>
        <p:spPr>
          <a:xfrm>
            <a:off x="5415840" y="5029200"/>
            <a:ext cx="7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e4778"/>
                </a:solidFill>
                <a:latin typeface="Arial"/>
              </a:rPr>
              <a:t>S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1e4778"/>
                </a:solidFill>
                <a:uFillTx/>
                <a:latin typeface="Arial"/>
              </a:rPr>
              <a:t>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848720" cy="8384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Vitamin D metabol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70000"/>
              </a:lnSpc>
              <a:spcBef>
                <a:spcPts val="499"/>
              </a:spcBef>
              <a:buClr>
                <a:srgbClr val="1e47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holecalciferol  (Vitamin D3)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s derived from 7-dehydrocholesterol i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he skin by  sunlight or supplied in the die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1e47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In live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778"/>
                </a:solidFill>
                <a:latin typeface="Calibri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holecalciferol is converted to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25-hydroxycholecalciferol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(25-HC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by the  enzyme 25 hydroxyl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25-hydroxycholecalciferol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is the predominant form of vitamin 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n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blo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25-hydroxycholecalciferol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s the main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storage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form of vitamin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n the bod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778"/>
                </a:solidFill>
                <a:latin typeface="Calibri"/>
                <a:ea typeface="Calibr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In kidney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4778"/>
                </a:solidFill>
                <a:latin typeface="Calibri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he 1</a:t>
            </a:r>
            <a:r>
              <a:rPr b="1" lang="el-GR" sz="2000" spc="-1" strike="noStrike">
                <a:solidFill>
                  <a:srgbClr val="000099"/>
                </a:solidFill>
                <a:latin typeface="Calibri"/>
                <a:ea typeface="Calibri"/>
              </a:rPr>
              <a:t> α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hydroxylase enzyme converts 25 hydroxycholecalciferol t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1,25-dihydroxycholecalciferol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(1, 25 DHCC or Calcitriol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which is the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biologically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ctive form of vitamin 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0000"/>
                </a:solidFill>
                <a:latin typeface="Calibri"/>
                <a:ea typeface="Calibri"/>
              </a:rPr>
              <a:t>Functions of Vitamin D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80520" y="1828440"/>
            <a:ext cx="80773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ctive vitamin D (1, 25 DHCC or Calcitriol) regulates calcium levels in the body (calcium homeostasi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hrough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ncreasing absorption of calcium by the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intest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Minimizing loss of calcium by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kidn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Stimulating resorption of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bone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(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when necessar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Text Box 6" descr=""/>
          <p:cNvPicPr/>
          <p:nvPr/>
        </p:nvPicPr>
        <p:blipFill>
          <a:blip r:embed="rId1"/>
          <a:stretch/>
        </p:blipFill>
        <p:spPr>
          <a:xfrm>
            <a:off x="835200" y="4572000"/>
            <a:ext cx="7400880" cy="1432080"/>
          </a:xfrm>
          <a:prstGeom prst="rect">
            <a:avLst/>
          </a:prstGeom>
          <a:ln w="0">
            <a:noFill/>
          </a:ln>
        </p:spPr>
      </p:pic>
      <p:sp>
        <p:nvSpPr>
          <p:cNvPr id="192" name="Down Arrow 5"/>
          <p:cNvSpPr/>
          <p:nvPr/>
        </p:nvSpPr>
        <p:spPr>
          <a:xfrm>
            <a:off x="3657600" y="5105520"/>
            <a:ext cx="15238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Content Placeholder 2" descr=""/>
          <p:cNvPicPr/>
          <p:nvPr/>
        </p:nvPicPr>
        <p:blipFill>
          <a:blip r:embed="rId1"/>
          <a:stretch/>
        </p:blipFill>
        <p:spPr>
          <a:xfrm>
            <a:off x="420840" y="1596960"/>
            <a:ext cx="4303440" cy="4535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28_023"/>
          <p:cNvPicPr/>
          <p:nvPr/>
        </p:nvPicPr>
        <p:blipFill>
          <a:blip r:embed="rId2"/>
          <a:stretch/>
        </p:blipFill>
        <p:spPr>
          <a:xfrm>
            <a:off x="4876920" y="2133720"/>
            <a:ext cx="3965400" cy="2890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Mechanism of Action of Vitamin D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ight Arrow 5"/>
          <p:cNvSpPr/>
          <p:nvPr/>
        </p:nvSpPr>
        <p:spPr>
          <a:xfrm rot="692400">
            <a:off x="4188960" y="3360240"/>
            <a:ext cx="2656080" cy="11124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dce6f2"/>
          </a:solidFill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ight Arrow 6"/>
          <p:cNvSpPr/>
          <p:nvPr/>
        </p:nvSpPr>
        <p:spPr>
          <a:xfrm rot="19414800">
            <a:off x="4334040" y="4357800"/>
            <a:ext cx="807840" cy="1825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dce6f2"/>
          </a:solidFill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772400" cy="838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Parathyroid hormone (PTH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8" descr="Image:Illu thyroid parathyroi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76520" y="2133720"/>
            <a:ext cx="5790960" cy="352872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Calibri"/>
                <a:ea typeface="Calibri"/>
              </a:rPr>
              <a:t>Functions of Parathyroid Hormone (PTH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2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0c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40cb8"/>
                </a:solidFill>
                <a:latin typeface="Cambria"/>
              </a:rPr>
              <a:t>The active hormone is secreted in response to al fall in plasma Ca2+ resulting in in Ca2+ increase in bloo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40c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0cb8"/>
                </a:solidFill>
                <a:latin typeface="Cambria"/>
              </a:rPr>
              <a:t>On bo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       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PTH stimulates bone 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resorption by osteoclasts 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resulting in release of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       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calcium ions from bones to blood in cases of hypocalcemi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140cb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0cb8"/>
                </a:solidFill>
                <a:latin typeface="Cambria"/>
              </a:rPr>
              <a:t>On kidne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       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1- 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PTH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 increases 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reabsorption of calcium 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from kidney tubule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       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2- 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PTH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 promotes 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activity of 1</a:t>
            </a:r>
            <a:r>
              <a:rPr b="0" lang="en-GB" sz="1700" spc="-1" strike="noStrike">
                <a:solidFill>
                  <a:srgbClr val="140cb8"/>
                </a:solidFill>
                <a:latin typeface="Symbol"/>
                <a:ea typeface="Symbol"/>
              </a:rPr>
              <a:t>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hydroxylase 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of the kidney (with more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            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hydroxylation of 25 hydroxycholecalciferol (25 HCC) to 1,25 DHCC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           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(activation of </a:t>
            </a:r>
            <a:r>
              <a:rPr b="1" lang="en-GB" sz="1700" spc="-1" strike="noStrike">
                <a:solidFill>
                  <a:srgbClr val="140cb8"/>
                </a:solidFill>
                <a:latin typeface="Cambria"/>
              </a:rPr>
              <a:t>vitamin D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)  which increases </a:t>
            </a:r>
            <a:r>
              <a:rPr b="1" lang="en-GB" sz="1700" spc="-1" strike="noStrike">
                <a:solidFill>
                  <a:srgbClr val="140cb8"/>
                </a:solidFill>
                <a:latin typeface="Cambria"/>
              </a:rPr>
              <a:t>intestinal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 absorption of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            </a:t>
            </a: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calcium 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140cb8"/>
                </a:solidFill>
                <a:latin typeface="Cambria"/>
              </a:rPr>
              <a:t>           </a:t>
            </a:r>
            <a:r>
              <a:rPr b="1" lang="en-GB" sz="1700" spc="-1" strike="noStrike">
                <a:solidFill>
                  <a:srgbClr val="140cb8"/>
                </a:solidFill>
                <a:latin typeface="Cambria"/>
              </a:rPr>
              <a:t>So, action of PTH on intestine is </a:t>
            </a:r>
            <a:r>
              <a:rPr b="1" lang="en-GB" sz="1700" spc="-1" strike="noStrike" u="sng">
                <a:solidFill>
                  <a:srgbClr val="140cb8"/>
                </a:solidFill>
                <a:uFillTx/>
                <a:latin typeface="Cambria"/>
              </a:rPr>
              <a:t>indirect</a:t>
            </a:r>
            <a:r>
              <a:rPr b="1" lang="en-GB" sz="1700" spc="-1" strike="noStrike">
                <a:solidFill>
                  <a:srgbClr val="140cb8"/>
                </a:solidFill>
                <a:latin typeface="Cambria"/>
              </a:rPr>
              <a:t> (via Vitamin D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  <a:ea typeface="Calibri"/>
              </a:rPr>
              <a:t>Role of Parathyroid Hormone (PTH) in Hypocalc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28_024"/>
          <p:cNvPicPr/>
          <p:nvPr/>
        </p:nvPicPr>
        <p:blipFill>
          <a:blip r:embed="rId1"/>
          <a:stretch/>
        </p:blipFill>
        <p:spPr>
          <a:xfrm>
            <a:off x="2133720" y="1600200"/>
            <a:ext cx="7010280" cy="48769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3"/>
          <p:cNvSpPr/>
          <p:nvPr/>
        </p:nvSpPr>
        <p:spPr>
          <a:xfrm>
            <a:off x="457200" y="1905120"/>
            <a:ext cx="3581280" cy="40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Calibri"/>
              </a:rPr>
              <a:t>P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Calibri"/>
              </a:rPr>
              <a:t>is the princip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Calibri"/>
              </a:rPr>
              <a:t>acute regulator of blood [Ca</a:t>
            </a:r>
            <a:r>
              <a:rPr b="1" lang="en-US" sz="2800" spc="-1" strike="noStrike" baseline="30000">
                <a:solidFill>
                  <a:srgbClr val="000099"/>
                </a:solidFill>
                <a:latin typeface="Arial"/>
                <a:ea typeface="Calibri"/>
              </a:rPr>
              <a:t>2+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Calibri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Calibri"/>
              </a:rPr>
              <a:t>P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Calibri"/>
              </a:rPr>
              <a:t>is a hypercalcemic hormone in case of hypocalcem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713600" y="646200"/>
            <a:ext cx="5335920" cy="6879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Calcitonin Hormo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3152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Calcitonin hormone is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Secreted by the parafollicular or “C” cells of the thyroid gl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Released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n response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o high blood calcium (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hypercalcemia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In cases of hypercalcemia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Calcitonin Hormone   </a:t>
            </a:r>
            <a:r>
              <a:rPr b="1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 blood [Ca2+]  b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Osteoclast activity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(preventing release of calcium to blood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Renal reabsorption of calc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 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Net result of its action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Symbol"/>
                <a:ea typeface="Symbol"/>
              </a:rPr>
              <a:t>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Symbol"/>
                <a:ea typeface="Symbol"/>
              </a:rPr>
              <a:t>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 blood calc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4778"/>
                </a:solidFill>
                <a:latin typeface="Calibri"/>
                <a:ea typeface="Calibri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ALCITONIN IS THE ONLY HYPOCALCEMIC HORM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6933960" cy="7776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Objectives of Lectu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600" y="1447560"/>
            <a:ext cx="8686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 Math"/>
                <a:ea typeface="Aharoni"/>
              </a:rPr>
              <a:t>By the end of these lectures, students should be able to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Recall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Cambria Math"/>
                <a:ea typeface="Aharoni"/>
              </a:rPr>
              <a:t>Calcium</a:t>
            </a: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 Sources, Distributions &amp; Fun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Understand Organ &amp; Endocrinal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Cambria Math"/>
                <a:ea typeface="Aharoni"/>
              </a:rPr>
              <a:t>Homeostasis of Calcium </a:t>
            </a: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with recognition of the roles of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          </a:t>
            </a: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- Vitamin 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          </a:t>
            </a: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- Parathyroid Hormone (PT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          </a:t>
            </a: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- Calcitonin Horm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Verify Main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Cambria Math"/>
                <a:ea typeface="Aharoni"/>
              </a:rPr>
              <a:t>Causes of Hypocalcaemia &amp; Hypercalcem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Recognize the biochemical and Clinical Interrelations of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Cambria Math"/>
                <a:ea typeface="Aharoni"/>
              </a:rPr>
              <a:t>Metabolic diseases of bon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          </a:t>
            </a: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- Rickets &amp; Osteomala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          </a:t>
            </a:r>
            <a:r>
              <a:rPr b="0" lang="en-US" sz="1800" spc="-1" strike="noStrike">
                <a:solidFill>
                  <a:srgbClr val="000099"/>
                </a:solidFill>
                <a:latin typeface="Cambria Math"/>
                <a:ea typeface="Aharoni"/>
              </a:rPr>
              <a:t>- Osteoporo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391520" cy="1143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MAIN CAUSES of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HYPERCALCEMI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76160"/>
            <a:ext cx="8686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Primary hyperparathyroidism</a:t>
            </a:r>
            <a:r>
              <a:rPr b="1" lang="en-US" sz="1900" spc="-1" strike="noStrike">
                <a:solidFill>
                  <a:srgbClr val="1e4778"/>
                </a:solidFill>
                <a:latin typeface="Calibri"/>
                <a:ea typeface="Calibri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e4778"/>
                </a:solidFill>
                <a:latin typeface="Calibri"/>
                <a:ea typeface="Calibri"/>
              </a:rPr>
              <a:t>     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due to </a:t>
            </a:r>
            <a:r>
              <a:rPr b="0" lang="en-US" sz="19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adenomas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 (single or multiple) of the parathyroid gl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Blood PTH is 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high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 (or upper normal range *)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Blood calcium is 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high &amp; 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Blood phosphate is 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low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Urine calcium &amp; phosphorous are 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high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  (hypercalciuria &amp; hyperphasphatruria)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Tumors</a:t>
            </a:r>
            <a:r>
              <a:rPr b="1" lang="en-US" sz="1900" spc="-1" strike="noStrike">
                <a:solidFill>
                  <a:srgbClr val="1e4778"/>
                </a:solidFill>
                <a:latin typeface="Calibri"/>
                <a:ea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Humoral hypercalcemia of malignancy due to PTHrP (PTH related protein) released by  some kinds of tumor cell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PTHrP is </a:t>
            </a:r>
            <a:r>
              <a:rPr b="0" lang="en-US" sz="19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not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 responsive to negative feedback by calcium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Hypervitaminosis 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Excessive intake of vitamin 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Extrarenal hydroxylation of 25HCC as in granulmotaous diseases as sarcoidosi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476"/>
              </a:spcBef>
              <a:buClr>
                <a:srgbClr val="1e47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391520" cy="14475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 </a:t>
            </a:r>
            <a:br>
              <a:rPr sz="3600"/>
            </a:b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MAIN CAUSES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 of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HYPOCALCEMI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28240" y="19051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Clr>
                <a:srgbClr val="1e47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Hypoparathyroidism (</a:t>
            </a: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PTH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Vitamin D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 deficienc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Renal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 disease :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low 1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hydroxylase activity  &amp; by hyperphosphatu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Hypoalbuminemia: low blood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album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Nutritional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 calcium defici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Intestinal disorders causing inadequate calcium or vit.D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absor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696080" cy="12952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Metabolic Diseases of Bone: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 Rickets &amp; Osteomalac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rtl="1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  <a:ea typeface="Calibri"/>
              </a:rPr>
              <a:t>Rickets &amp; osteomalacia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  <a:ea typeface="Calibri"/>
              </a:rPr>
              <a:t>are metabolic bone diseases occurring due to poor mineralization (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calcium content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  <a:ea typeface="Calibri"/>
              </a:rPr>
              <a:t>) of b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1e4778"/>
                </a:solidFill>
                <a:uFillTx/>
                <a:latin typeface="Calibri"/>
                <a:ea typeface="Calibri"/>
              </a:rPr>
              <a:t>Causes of poor calcification of bon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Calibri"/>
                <a:ea typeface="Calibri"/>
              </a:rPr>
              <a:t>I</a:t>
            </a:r>
            <a:r>
              <a:rPr b="1" lang="en-US" sz="1900" spc="-1" strike="noStrike">
                <a:solidFill>
                  <a:srgbClr val="ff0000"/>
                </a:solidFill>
                <a:latin typeface="Calibri"/>
                <a:ea typeface="Calibri"/>
              </a:rPr>
              <a:t>.   Vitamin D deficienc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e4778"/>
                </a:solidFill>
                <a:latin typeface="Calibri"/>
                <a:ea typeface="Calibri"/>
              </a:rPr>
              <a:t>     </a:t>
            </a:r>
            <a:r>
              <a:rPr b="1" lang="en-US" sz="1500" spc="-1" strike="noStrike">
                <a:solidFill>
                  <a:srgbClr val="1e4778"/>
                </a:solidFill>
                <a:latin typeface="Calibri"/>
                <a:ea typeface="Calibri"/>
              </a:rPr>
              <a:t>1-  </a:t>
            </a:r>
            <a:r>
              <a:rPr b="1" lang="en-US" sz="1500" spc="-1" strike="noStrike">
                <a:solidFill>
                  <a:srgbClr val="000099"/>
                </a:solidFill>
                <a:latin typeface="Calibri"/>
                <a:ea typeface="Calibri"/>
              </a:rPr>
              <a:t>Deficiency of sources of vitamin D3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alibri"/>
                <a:ea typeface="Calibri"/>
              </a:rPr>
              <a:t>           </a:t>
            </a:r>
            <a:r>
              <a:rPr b="0" lang="en-US" sz="1500" spc="-1" strike="noStrike">
                <a:solidFill>
                  <a:srgbClr val="000099"/>
                </a:solidFill>
                <a:latin typeface="Calibri"/>
                <a:ea typeface="Calibri"/>
              </a:rPr>
              <a:t>BOTH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Nutrional</a:t>
            </a:r>
            <a:r>
              <a:rPr b="0" lang="en-US" sz="1500" spc="-1" strike="noStrike">
                <a:solidFill>
                  <a:srgbClr val="000099"/>
                </a:solidFill>
                <a:latin typeface="Calibri"/>
                <a:ea typeface="Calibri"/>
              </a:rPr>
              <a:t> Vitamin D deficiency (vitamin D3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  <a:ea typeface="Calibri"/>
              </a:rPr>
              <a:t>Poor exposure to </a:t>
            </a:r>
            <a:r>
              <a:rPr b="0" lang="en-US" sz="15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sun ligh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1" lang="en-US" sz="1500" spc="-1" strike="noStrike">
                <a:solidFill>
                  <a:srgbClr val="000099"/>
                </a:solidFill>
                <a:latin typeface="Calibri"/>
                <a:ea typeface="Calibri"/>
              </a:rPr>
              <a:t>2- Impaired vitamin D metabolism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Renal Rickets</a:t>
            </a:r>
            <a:r>
              <a:rPr b="0" lang="en-US" sz="1500" spc="-1" strike="noStrike">
                <a:solidFill>
                  <a:srgbClr val="000099"/>
                </a:solidFill>
                <a:latin typeface="Calibri"/>
                <a:ea typeface="Calibri"/>
              </a:rPr>
              <a:t>: deficiency of 1 hydroxylase of the kidne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  <a:ea typeface="Calibri"/>
              </a:rPr>
              <a:t>Deficiency of </a:t>
            </a:r>
            <a:r>
              <a:rPr b="0" lang="en-US" sz="15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parathyroid hormone </a:t>
            </a:r>
            <a:r>
              <a:rPr b="0" lang="en-US" sz="1500" spc="-1" strike="noStrike">
                <a:solidFill>
                  <a:srgbClr val="000099"/>
                </a:solidFill>
                <a:latin typeface="Calibri"/>
                <a:ea typeface="Calibri"/>
              </a:rPr>
              <a:t>: decrease activity of 1 </a:t>
            </a:r>
            <a:r>
              <a:rPr b="0" lang="el-GR" sz="1500" spc="-1" strike="noStrike">
                <a:solidFill>
                  <a:srgbClr val="000099"/>
                </a:solidFill>
                <a:latin typeface="Calibri"/>
                <a:ea typeface="Calibri"/>
              </a:rPr>
              <a:t>α</a:t>
            </a:r>
            <a:r>
              <a:rPr b="0" lang="en-US" sz="1500" spc="-1" strike="noStrike">
                <a:solidFill>
                  <a:srgbClr val="000099"/>
                </a:solidFill>
                <a:latin typeface="Calibri"/>
                <a:ea typeface="Calibri"/>
              </a:rPr>
              <a:t> hydroxyl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15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Genetic</a:t>
            </a:r>
            <a:r>
              <a:rPr b="0" lang="en-US" sz="1500" spc="-1" strike="noStrike">
                <a:solidFill>
                  <a:srgbClr val="000099"/>
                </a:solidFill>
                <a:latin typeface="Calibri"/>
                <a:ea typeface="Calibri"/>
              </a:rPr>
              <a:t> defects in vitamin D metabolism (defect in its activation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70000"/>
              </a:lnSpc>
              <a:spcBef>
                <a:spcPts val="601"/>
              </a:spcBef>
              <a:buClr>
                <a:srgbClr val="1f497d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15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Genetic</a:t>
            </a:r>
            <a:r>
              <a:rPr b="0" lang="en-US" sz="1500" spc="-1" strike="noStrike">
                <a:solidFill>
                  <a:srgbClr val="000099"/>
                </a:solidFill>
                <a:latin typeface="Calibri"/>
                <a:ea typeface="Calibri"/>
              </a:rPr>
              <a:t> defects of vitamin D receptors or abnormal ligand binding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Calibri"/>
                <a:ea typeface="Calibri"/>
              </a:rPr>
              <a:t>II. </a:t>
            </a:r>
            <a:r>
              <a:rPr b="1" lang="en-US" sz="1900" spc="-1" strike="noStrike">
                <a:solidFill>
                  <a:srgbClr val="ff0000"/>
                </a:solidFill>
                <a:latin typeface="Calibri"/>
                <a:ea typeface="Calibri"/>
              </a:rPr>
              <a:t>Calcium deficiency (</a:t>
            </a:r>
            <a:r>
              <a:rPr b="1" lang="en-US" sz="19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nutritional</a:t>
            </a:r>
            <a:r>
              <a:rPr b="1" lang="en-US" sz="1900" spc="-1" strike="noStrike">
                <a:solidFill>
                  <a:srgbClr val="ff0000"/>
                </a:solidFill>
                <a:latin typeface="Calibri"/>
                <a:ea typeface="Calibri"/>
              </a:rPr>
              <a:t> or  defect in intestinal </a:t>
            </a:r>
            <a:r>
              <a:rPr b="1" lang="en-US" sz="19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absorption</a:t>
            </a:r>
            <a:r>
              <a:rPr b="1" lang="en-US" sz="1900" spc="-1" strike="noStrike">
                <a:solidFill>
                  <a:srgbClr val="ff0000"/>
                </a:solidFill>
                <a:latin typeface="Calibri"/>
                <a:ea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0880" y="228600"/>
            <a:ext cx="8382240" cy="62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 rtl="1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ff0000"/>
                </a:solidFill>
                <a:uFillTx/>
                <a:latin typeface="Calibri"/>
              </a:rPr>
              <a:t>Metabolic Diseases of Bon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rtl="1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Calibri"/>
                <a:ea typeface="Calibri"/>
              </a:rPr>
              <a:t>                           </a:t>
            </a:r>
            <a:r>
              <a:rPr b="1" lang="en-US" sz="3700" spc="-1" strike="noStrike">
                <a:solidFill>
                  <a:srgbClr val="ff0000"/>
                </a:solidFill>
                <a:latin typeface="Calibri"/>
                <a:ea typeface="Calibri"/>
              </a:rPr>
              <a:t>RICKETS</a:t>
            </a:r>
            <a:r>
              <a:rPr b="1" lang="en-US" sz="37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Normal formation of the collagen matrix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rtl="1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                                                              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BU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Incomplete mineralization (poor calcification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Calibri"/>
                <a:ea typeface="Calibri"/>
              </a:rPr>
              <a:t>                                             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  <a:ea typeface="Calibri"/>
              </a:rPr>
              <a:t>Soft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  <a:ea typeface="Calibri"/>
              </a:rPr>
              <a:t>B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  <a:ea typeface="Calibri"/>
              </a:rPr>
              <a:t>                        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  <a:ea typeface="Calibri"/>
              </a:rPr>
              <a:t>CLINICALLY: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Bone Deform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Calibri"/>
                <a:ea typeface="Calibri"/>
              </a:rPr>
              <a:t>OSTEOMALACIA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Demineralization (poor calcification) of preexisting bones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alibri"/>
                <a:ea typeface="Calibri"/>
              </a:rPr>
              <a:t>   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alibri"/>
                <a:ea typeface="Calibri"/>
              </a:rPr>
              <a:t>                                                   </a:t>
            </a:r>
            <a:r>
              <a:rPr b="0" lang="en-US" sz="1900" spc="-1" strike="noStrike">
                <a:solidFill>
                  <a:srgbClr val="ff0000"/>
                </a:solidFill>
                <a:latin typeface="Calibri"/>
                <a:ea typeface="Calibri"/>
              </a:rPr>
              <a:t>with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  <a:ea typeface="Calibri"/>
              </a:rPr>
              <a:t>CLINICALLY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: More Susceptibility to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Fra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Down Arrow 6"/>
          <p:cNvSpPr/>
          <p:nvPr/>
        </p:nvSpPr>
        <p:spPr>
          <a:xfrm>
            <a:off x="3124080" y="5181480"/>
            <a:ext cx="167652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eece1"/>
          </a:solidFill>
          <a:ln w="25560">
            <a:solidFill>
              <a:srgbClr val="1e47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Down Arrow 7"/>
          <p:cNvSpPr/>
          <p:nvPr/>
        </p:nvSpPr>
        <p:spPr>
          <a:xfrm>
            <a:off x="3200400" y="2819520"/>
            <a:ext cx="167652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eece1"/>
          </a:solidFill>
          <a:ln w="25560">
            <a:solidFill>
              <a:srgbClr val="1e47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Down Arrow 8"/>
          <p:cNvSpPr/>
          <p:nvPr/>
        </p:nvSpPr>
        <p:spPr>
          <a:xfrm>
            <a:off x="3124080" y="3429000"/>
            <a:ext cx="167652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eece1"/>
          </a:solidFill>
          <a:ln w="25560">
            <a:solidFill>
              <a:srgbClr val="1e47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914400" y="304920"/>
            <a:ext cx="7162920" cy="10666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Rickets &amp; Osteomala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0880" y="685800"/>
            <a:ext cx="76010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In Chronic Renal Fail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Low activity of Renal 1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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Hydroxyl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Decreased ability to form the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active form of vitamin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25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DHCC will be low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Treatment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:   1,25 DHCC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Calcitriol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Down Arrow 5"/>
          <p:cNvSpPr/>
          <p:nvPr/>
        </p:nvSpPr>
        <p:spPr>
          <a:xfrm>
            <a:off x="2971800" y="3048120"/>
            <a:ext cx="2133720" cy="609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Down Arrow 6"/>
          <p:cNvSpPr/>
          <p:nvPr/>
        </p:nvSpPr>
        <p:spPr>
          <a:xfrm>
            <a:off x="2971800" y="2133720"/>
            <a:ext cx="213372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96440" cy="12952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Renal Rickets</a:t>
            </a:r>
            <a:br>
              <a:rPr sz="4000"/>
            </a:b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Renal Osteodystro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8077320" cy="15080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Laboratory Investigations for the Diagnosis of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Rickets &amp; Osteomalacia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6840" y="2209680"/>
            <a:ext cx="807732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e4778"/>
                </a:solidFill>
                <a:latin typeface="Calibri"/>
              </a:rPr>
              <a:t>      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Investigations to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Calibri"/>
              </a:rPr>
              <a:t>confirm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 the diagnosis of ricket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en-US" sz="22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Calibri"/>
                <a:ea typeface="Calibri"/>
              </a:rPr>
              <a:t>Blood levels of 25-hydroxycholecalciferol (25 HCC)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en-US" sz="2200" spc="-1" strike="noStrike">
                <a:solidFill>
                  <a:srgbClr val="000099"/>
                </a:solidFill>
                <a:latin typeface="Calibri"/>
                <a:ea typeface="Calibri"/>
              </a:rPr>
              <a:t>Blood calcium, (hypocalcemi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en-US" sz="22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200" spc="-1" strike="noStrike">
                <a:solidFill>
                  <a:srgbClr val="000099"/>
                </a:solidFill>
                <a:latin typeface="Calibri"/>
                <a:ea typeface="Calibri"/>
              </a:rPr>
              <a:t>Blood Alkaline phosphatase (AL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Investigations to diagnose the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cause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  <a:ea typeface="Calibri"/>
              </a:rPr>
              <a:t> of rickets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alibri"/>
                <a:ea typeface="Calibri"/>
              </a:rPr>
              <a:t>Kidney function tests (KF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alibri"/>
                <a:ea typeface="Calibri"/>
              </a:rPr>
              <a:t>Blood 1, 25 dihydroxycholecalciferol (1, 25 DHC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alibri"/>
                <a:ea typeface="Calibri"/>
              </a:rPr>
              <a:t>Blood P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Calibri"/>
                <a:ea typeface="Calibri"/>
              </a:rPr>
              <a:t>Others i.e. molecular genetics (if indicat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550"/>
              </a:spcBef>
              <a:buClr>
                <a:srgbClr val="1e47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550"/>
              </a:spcBef>
              <a:buClr>
                <a:srgbClr val="1e477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304920" y="21337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Most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prevalent metabolic bone disease in </a:t>
            </a:r>
            <a:r>
              <a:rPr b="0" lang="en-US" sz="19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adul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1e47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e4778"/>
                </a:solidFill>
                <a:latin typeface="Calibri"/>
                <a:ea typeface="Calibri"/>
              </a:rPr>
              <a:t>It </a:t>
            </a:r>
            <a:r>
              <a:rPr b="0" lang="en-US" sz="1900" spc="-1" strike="noStrike">
                <a:solidFill>
                  <a:srgbClr val="ff0000"/>
                </a:solidFill>
                <a:latin typeface="Calibri"/>
                <a:ea typeface="Calibri"/>
              </a:rPr>
              <a:t>means </a:t>
            </a:r>
            <a:r>
              <a:rPr b="0" lang="en-US" sz="19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reduction in bone mass per unit volum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alibri"/>
                <a:ea typeface="Calibri"/>
              </a:rPr>
              <a:t>       </a:t>
            </a:r>
            <a:r>
              <a:rPr b="0" lang="en-US" sz="1900" spc="-1" strike="noStrike">
                <a:solidFill>
                  <a:srgbClr val="ff0000"/>
                </a:solidFill>
                <a:latin typeface="Calibri"/>
                <a:ea typeface="Calibri"/>
              </a:rPr>
              <a:t>i.e</a:t>
            </a:r>
            <a:r>
              <a:rPr b="0" lang="en-US" sz="1900" spc="-1" strike="noStrike">
                <a:solidFill>
                  <a:srgbClr val="ff0000"/>
                </a:solidFill>
                <a:latin typeface="Calibri"/>
                <a:ea typeface="Calibri"/>
              </a:rPr>
              <a:t>. bone matrix composition is normal, but it is reduce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1e47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Typically silent</a:t>
            </a:r>
            <a:r>
              <a:rPr b="0" lang="en-US" sz="19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 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(without symptoms) until it leads to </a:t>
            </a:r>
            <a:r>
              <a:rPr b="0" lang="en-US" sz="19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fracture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 at a degree of trauma that would not have caused a fracture in a non-osteoprotic skeleto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       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Fractures are called fragility or osteoporotic fracture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       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Most affected: vertebral compression (may be asymptomatic) &amp; hip fractures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       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(requires surgery in most case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Post-menopausal women lose more bone mass than men (</a:t>
            </a:r>
            <a:r>
              <a:rPr b="1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primary osteoporosis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Osteoporosis </a:t>
            </a:r>
            <a:r>
              <a:rPr b="0" lang="en-US" sz="19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diagnosis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 is by dual energy x-ray absorpitometry (</a:t>
            </a:r>
            <a:r>
              <a:rPr b="1" lang="en-US" sz="19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DXA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) sca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76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Lab diagnosis: </a:t>
            </a:r>
            <a:r>
              <a:rPr b="0" lang="en-US" sz="19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not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1900" spc="-1" strike="noStrike">
                <a:solidFill>
                  <a:srgbClr val="000099"/>
                </a:solidFill>
                <a:latin typeface="Calibri"/>
                <a:ea typeface="Calibri"/>
              </a:rPr>
              <a:t>conclusiv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6248520" y="1676520"/>
            <a:ext cx="2611440" cy="13316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2"/>
          <p:cNvSpPr/>
          <p:nvPr/>
        </p:nvSpPr>
        <p:spPr>
          <a:xfrm>
            <a:off x="533520" y="304920"/>
            <a:ext cx="8229600" cy="12952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Metabolic Diseases of Bone: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 Osteopor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Down Arrow 6"/>
          <p:cNvSpPr/>
          <p:nvPr/>
        </p:nvSpPr>
        <p:spPr>
          <a:xfrm rot="14700000">
            <a:off x="6967800" y="1568520"/>
            <a:ext cx="382680" cy="1832040"/>
          </a:xfrm>
          <a:prstGeom prst="downArrow">
            <a:avLst>
              <a:gd name="adj1" fmla="val 50000"/>
              <a:gd name="adj2" fmla="val 49979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"/>
          <p:cNvPicPr/>
          <p:nvPr/>
        </p:nvPicPr>
        <p:blipFill>
          <a:blip r:embed="rId1"/>
          <a:srcRect l="11744" t="2180" r="0" b="0"/>
          <a:stretch/>
        </p:blipFill>
        <p:spPr>
          <a:xfrm>
            <a:off x="1219320" y="1795320"/>
            <a:ext cx="6781680" cy="50626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2"/>
          <p:cNvSpPr/>
          <p:nvPr/>
        </p:nvSpPr>
        <p:spPr>
          <a:xfrm>
            <a:off x="762120" y="304920"/>
            <a:ext cx="8001000" cy="13716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Metabolic Diseases of Bone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Osteoporo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Secondary Osteoporosi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Risk Fa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7521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Secondary osteoporosis may be caused by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reduced bone mas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Calibri"/>
              </a:rPr>
              <a:t>with increased consequent risk of frac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Risk Factors for osteoporosi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Advanced age (esp. in fem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alibri"/>
                <a:ea typeface="Calibri"/>
              </a:rPr>
              <a:t>Certain Drug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alibri"/>
                <a:ea typeface="Calibri"/>
              </a:rPr>
              <a:t>Family history of osteoporosis or fractures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alibri"/>
                <a:ea typeface="Calibri"/>
              </a:rPr>
              <a:t>Immobiliz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alibri"/>
                <a:ea typeface="Calibri"/>
              </a:rPr>
              <a:t>Smok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alibri"/>
                <a:ea typeface="Calibri"/>
              </a:rPr>
              <a:t>Excess alcohol intak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alibri"/>
                <a:ea typeface="Calibri"/>
              </a:rPr>
              <a:t>Cushing’s syndrom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alibri"/>
                <a:ea typeface="Calibri"/>
              </a:rPr>
              <a:t>Long term glucocorticoids therap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alibri"/>
                <a:ea typeface="Calibri"/>
              </a:rPr>
              <a:t>Hyperparathyroidis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alibri"/>
                <a:ea typeface="Calibri"/>
              </a:rPr>
              <a:t>Hyperthyroidis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alibri"/>
                <a:ea typeface="Calibri"/>
              </a:rPr>
              <a:t>Vitamin D disord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99"/>
                </a:solidFill>
                <a:latin typeface="Calibri"/>
                <a:ea typeface="Calibri"/>
              </a:rPr>
              <a:t>Certain malignanc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25"/>
              </a:spcBef>
              <a:buClr>
                <a:srgbClr val="1e47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In these cases, DXA is highly recommended to evaluate bone dens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ase Study-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A 27 years old man presents to his physician 3 weeks after his thyroid surgically removed for a thyroid cancer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However, since he went home from the hospital, he noticed painful, involuntary muscular cramping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He also felt numbness and tingling around his mouth &amp; in his hands and feet. His parents said that he was irritable for the last 2 weeks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He is on levothyroxine medication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alibri"/>
              </a:rPr>
              <a:t>On examin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He has a well-healing thyroidectomy scar &amp; no palpable masses in the thyroid bed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Blood pressure cuff inflated above the systolic pressure induces involuntary muscular contracture in the ipsilateral hand after 60 seconds (Trousseau`s sig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Tapping on the face interior to the ears cause twitching in the ipsilateral corner of the mouth (Chevostek`s sign)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99"/>
                </a:solidFill>
                <a:latin typeface="Calibri"/>
              </a:rPr>
              <a:t>Lab Investigation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         </a:t>
            </a: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Calcium:   5.6 mg/dl (N: 8.5 – 10.2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         </a:t>
            </a: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Albumin:  4.1 g/dl  (N: 3.5 – 4.8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         </a:t>
            </a: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PTH: &lt; 1 pg/ml   (N: </a:t>
            </a:r>
            <a:r>
              <a:rPr b="0" lang="en-US" sz="1400" spc="-1" strike="noStrike">
                <a:solidFill>
                  <a:srgbClr val="000099"/>
                </a:solidFill>
                <a:latin typeface="Calibri"/>
              </a:rPr>
              <a:t>N: 11 – 5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Components of B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599840"/>
            <a:ext cx="84582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Bone is a specialized mineralized connective tissue contain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1-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ellular Elements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-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Osteoblasts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(bone forming cell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-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Osteoclasts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(bone resorping cell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2-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Organic Matrix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- </a:t>
            </a:r>
            <a:r>
              <a:rPr b="0" i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Proteins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ype I Colla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Proteoglyc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-  </a:t>
            </a:r>
            <a:r>
              <a:rPr b="0" i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norganic Minerals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: Calcium &amp; Phosph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-  </a:t>
            </a:r>
            <a:r>
              <a:rPr b="0" i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Others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: small amount of hydroxide &amp; carbon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alcium is tightly regulated with phosphorous in the bo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IAGNOSIS of Case-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alibri"/>
              </a:rPr>
              <a:t>The parathyroid glands were removed during thyroidectom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alibri"/>
              </a:rPr>
              <a:t>PTH undetect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alibri"/>
              </a:rPr>
              <a:t>Hypocalcem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alibri"/>
              </a:rPr>
              <a:t>Clinical Manifestations of hypocalcemi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Calibri"/>
              </a:rPr>
              <a:t>(increased reflexes &amp; muscular cramping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ase Study-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1e47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4778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A 6-year old girl is brought to a pediatrician by her paren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They reported that her height is not progressing as they think it should (or like it   did for her 8 year old sister &amp; her legs look bow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She takes no med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Family history: Some cousins has the same probl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Lower Lim X-Ray</a:t>
            </a: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Bowing of long bon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Generalized demineralizations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Clinical Chemistry Lab Investigations</a:t>
            </a: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Calcium: 7.2 mg/dl (N: 8.5 – 10.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Albumin: 4.1 g/dl  (N: 3.5 – 4.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PTH: 866 pg/dl  (N: 11 – 5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25 HCC: 35 ng/dl (N: 20- 5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1, 25 DHCC: less than 1 pg/ml (N: 20 – 75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DIAGNOSIS of Case-2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Pseudohyperparathyroid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In which there is genetic mutations in the stimulatory G-protei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IN </a:t>
            </a: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ACTIVE G Protei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No activation </a:t>
            </a: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of adenylate cycl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NO </a:t>
            </a: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cAM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NO EFFECT OF PT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HYPOCALCEMI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INCREASE OF PTH (HYPERPARATHYROIDISM WITH HYPOCALCEMIA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TO BE CONFIRMED by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99"/>
                </a:solidFill>
                <a:latin typeface="Calibri"/>
              </a:rPr>
              <a:t>MOLECULAR GENETIC ANALYSIS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Calibri"/>
              </a:rPr>
              <a:t>Calc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09480" y="2057400"/>
            <a:ext cx="7848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e47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4778"/>
                </a:solidFill>
                <a:latin typeface="Calibri"/>
                <a:ea typeface="Calibri"/>
              </a:rPr>
              <a:t>Calcium is the most abundant mineral in the body</a:t>
            </a:r>
            <a:r>
              <a:rPr b="0" lang="en-US" sz="2400" spc="-1" strike="noStrike">
                <a:solidFill>
                  <a:srgbClr val="1e4778"/>
                </a:solidFill>
                <a:latin typeface="Calibri"/>
                <a:ea typeface="Calibri"/>
              </a:rPr>
              <a:t>: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4778"/>
                </a:solidFill>
                <a:latin typeface="Calibri"/>
                <a:ea typeface="Calibri"/>
              </a:rPr>
              <a:t>     </a:t>
            </a:r>
            <a:r>
              <a:rPr b="1" lang="en-US" sz="2400" spc="-1" strike="noStrike">
                <a:solidFill>
                  <a:srgbClr val="1e4778"/>
                </a:solidFill>
                <a:latin typeface="Calibri"/>
                <a:ea typeface="Calibri"/>
              </a:rPr>
              <a:t>about 1 kg in a 70 kg m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e47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e47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778"/>
                </a:solidFill>
                <a:latin typeface="Calibri"/>
                <a:ea typeface="Calibri"/>
              </a:rPr>
              <a:t>~ </a:t>
            </a:r>
            <a:r>
              <a:rPr b="1" lang="en-US" sz="2400" spc="-1" strike="noStrike">
                <a:solidFill>
                  <a:srgbClr val="1e4778"/>
                </a:solidFill>
                <a:latin typeface="Calibri"/>
                <a:ea typeface="Calibri"/>
              </a:rPr>
              <a:t>99% of the body’s calcium is present in the b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4778"/>
                </a:solidFill>
                <a:latin typeface="Calibri"/>
                <a:ea typeface="Calibri"/>
              </a:rPr>
              <a:t>     </a:t>
            </a:r>
            <a:r>
              <a:rPr b="0" lang="en-US" sz="2400" spc="-1" strike="noStrike">
                <a:solidFill>
                  <a:srgbClr val="1e4778"/>
                </a:solidFill>
                <a:latin typeface="Calibri"/>
                <a:ea typeface="Calibri"/>
              </a:rPr>
              <a:t>where it is </a:t>
            </a:r>
            <a:r>
              <a:rPr b="1" lang="en-US" sz="2400" spc="-1" strike="noStrike">
                <a:solidFill>
                  <a:srgbClr val="1e4778"/>
                </a:solidFill>
                <a:latin typeface="Calibri"/>
                <a:ea typeface="Calibri"/>
              </a:rPr>
              <a:t>combined with phosphate</a:t>
            </a:r>
            <a:r>
              <a:rPr b="0" lang="en-US" sz="2400" spc="-1" strike="noStrike">
                <a:solidFill>
                  <a:srgbClr val="1e4778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en-US" sz="3900" spc="-1" strike="noStrike">
                <a:solidFill>
                  <a:srgbClr val="ff0000"/>
                </a:solidFill>
                <a:latin typeface="Calibri"/>
              </a:rPr>
              <a:t>Dietary </a:t>
            </a:r>
            <a:r>
              <a:rPr b="1" lang="en-US" sz="3900" spc="-1" strike="noStrike">
                <a:solidFill>
                  <a:srgbClr val="ff0000"/>
                </a:solidFill>
                <a:latin typeface="Calibri"/>
                <a:ea typeface="Calibri"/>
              </a:rPr>
              <a:t>Sources of Calcium</a:t>
            </a:r>
            <a:r>
              <a:rPr b="1" lang="en-US" sz="3900" spc="-1" strike="noStrike">
                <a:solidFill>
                  <a:srgbClr val="ff0000"/>
                </a:solidFill>
                <a:latin typeface="Calibri"/>
                <a:ea typeface="Calibri"/>
              </a:rPr>
              <a:t>  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Rich</a:t>
            </a:r>
            <a:r>
              <a:rPr b="0" lang="en-US" sz="3200" spc="-1" strike="noStrike">
                <a:solidFill>
                  <a:srgbClr val="1e4778"/>
                </a:solidFill>
                <a:latin typeface="Calibri"/>
                <a:ea typeface="Calibri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778"/>
                </a:solidFill>
                <a:latin typeface="Calibri"/>
                <a:ea typeface="Calibri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Calibri"/>
                <a:ea typeface="Calibri"/>
              </a:rPr>
              <a:t>Milk</a:t>
            </a:r>
            <a:r>
              <a:rPr b="0" lang="en-US" sz="3200" spc="-1" strike="noStrike">
                <a:solidFill>
                  <a:srgbClr val="000099"/>
                </a:solidFill>
                <a:latin typeface="Calibri"/>
                <a:ea typeface="Calibri"/>
              </a:rPr>
              <a:t>, </a:t>
            </a:r>
            <a:r>
              <a:rPr b="0" lang="en-US" sz="3200" spc="-1" strike="noStrike">
                <a:solidFill>
                  <a:srgbClr val="000099"/>
                </a:solidFill>
                <a:latin typeface="Calibri"/>
                <a:ea typeface="Calibri"/>
              </a:rPr>
              <a:t>milk products </a:t>
            </a:r>
            <a:r>
              <a:rPr b="0" lang="en-US" sz="3200" spc="-1" strike="noStrike">
                <a:solidFill>
                  <a:srgbClr val="000099"/>
                </a:solidFill>
                <a:latin typeface="Calibri"/>
                <a:ea typeface="Calibri"/>
              </a:rPr>
              <a:t>as cheese &amp; yoghu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e47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Fai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4778"/>
                </a:solidFill>
                <a:latin typeface="Calibri"/>
                <a:ea typeface="Calibri"/>
              </a:rPr>
              <a:t>    </a:t>
            </a:r>
            <a:r>
              <a:rPr b="0" lang="en-US" sz="3200" spc="-1" strike="noStrike">
                <a:solidFill>
                  <a:srgbClr val="000099"/>
                </a:solidFill>
                <a:latin typeface="Calibri"/>
                <a:ea typeface="Calibri"/>
              </a:rPr>
              <a:t>Legumes, veget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2"/>
          <p:cNvGrpSpPr/>
          <p:nvPr/>
        </p:nvGrpSpPr>
        <p:grpSpPr>
          <a:xfrm>
            <a:off x="380880" y="1530360"/>
            <a:ext cx="7713720" cy="4966920"/>
            <a:chOff x="380880" y="1530360"/>
            <a:chExt cx="7713720" cy="4966920"/>
          </a:xfrm>
        </p:grpSpPr>
        <p:sp>
          <p:nvSpPr>
            <p:cNvPr id="141" name="Rectangle 4"/>
            <p:cNvSpPr/>
            <p:nvPr/>
          </p:nvSpPr>
          <p:spPr>
            <a:xfrm>
              <a:off x="380880" y="2895480"/>
              <a:ext cx="1981080" cy="119124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Black"/>
                  <a:ea typeface="MS PGothic"/>
                </a:rPr>
                <a:t>Total Calciu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Black"/>
                  <a:ea typeface="MS PGothic"/>
                </a:rPr>
                <a:t>Of the Bod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5"/>
            <p:cNvSpPr/>
            <p:nvPr/>
          </p:nvSpPr>
          <p:spPr>
            <a:xfrm>
              <a:off x="3200400" y="2286000"/>
              <a:ext cx="2081160" cy="703800"/>
            </a:xfrm>
            <a:prstGeom prst="rect">
              <a:avLst/>
            </a:pr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 algn="ctr">
                <a:lnSpc>
                  <a:spcPct val="100000"/>
                </a:lnSpc>
                <a:buClr>
                  <a:srgbClr val="ff0000"/>
                </a:buClr>
                <a:buFont typeface="Symbol" charset="2"/>
                <a:buChar char="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99 %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in b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7"/>
            <p:cNvSpPr/>
            <p:nvPr/>
          </p:nvSpPr>
          <p:spPr>
            <a:xfrm>
              <a:off x="4419360" y="5715000"/>
              <a:ext cx="936360" cy="3988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IC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1"/>
            <p:cNvSpPr/>
            <p:nvPr/>
          </p:nvSpPr>
          <p:spPr>
            <a:xfrm>
              <a:off x="3504960" y="4648320"/>
              <a:ext cx="934920" cy="810360"/>
            </a:xfrm>
            <a:prstGeom prst="rect">
              <a:avLst/>
            </a:prstGeom>
            <a:solidFill>
              <a:srgbClr val="92d050"/>
            </a:solidFill>
            <a:ln w="572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1 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2"/>
            <p:cNvSpPr/>
            <p:nvPr/>
          </p:nvSpPr>
          <p:spPr>
            <a:xfrm>
              <a:off x="6151680" y="3205080"/>
              <a:ext cx="1871640" cy="33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indent="-27792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Blood Clotting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3"/>
            <p:cNvSpPr/>
            <p:nvPr/>
          </p:nvSpPr>
          <p:spPr>
            <a:xfrm>
              <a:off x="6151680" y="4122000"/>
              <a:ext cx="1942920" cy="5806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Excitability of Nerve &amp; Mus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>
              <a:off x="6151680" y="1530360"/>
              <a:ext cx="1820880" cy="580680"/>
            </a:xfrm>
            <a:prstGeom prst="rect">
              <a:avLst/>
            </a:pr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Bone Form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5"/>
            <p:cNvSpPr/>
            <p:nvPr/>
          </p:nvSpPr>
          <p:spPr>
            <a:xfrm>
              <a:off x="6172200" y="2290680"/>
              <a:ext cx="1884240" cy="580680"/>
            </a:xfrm>
            <a:prstGeom prst="rect">
              <a:avLst/>
            </a:prstGeom>
            <a:solidFill>
              <a:srgbClr val="e6b9b8"/>
            </a:solidFill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Reservoir for ECF [Ca2+]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6"/>
            <p:cNvSpPr/>
            <p:nvPr/>
          </p:nvSpPr>
          <p:spPr>
            <a:xfrm>
              <a:off x="5923080" y="5186520"/>
              <a:ext cx="2133360" cy="13107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Metabolic Regulation for Action of Hormones &amp; Enzyme Activ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7"/>
            <p:cNvSpPr/>
            <p:nvPr/>
          </p:nvSpPr>
          <p:spPr>
            <a:xfrm flipV="1">
              <a:off x="2209680" y="2666880"/>
              <a:ext cx="990360" cy="258480"/>
            </a:xfrm>
            <a:prstGeom prst="line">
              <a:avLst/>
            </a:prstGeom>
            <a:ln w="57240">
              <a:solidFill>
                <a:srgbClr val="e6b9b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8"/>
            <p:cNvSpPr/>
            <p:nvPr/>
          </p:nvSpPr>
          <p:spPr>
            <a:xfrm>
              <a:off x="2361960" y="4648320"/>
              <a:ext cx="1143000" cy="38088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0"/>
            <p:cNvSpPr/>
            <p:nvPr/>
          </p:nvSpPr>
          <p:spPr>
            <a:xfrm flipV="1">
              <a:off x="5257800" y="1828800"/>
              <a:ext cx="914400" cy="457200"/>
            </a:xfrm>
            <a:prstGeom prst="line">
              <a:avLst/>
            </a:prstGeom>
            <a:ln w="57240">
              <a:solidFill>
                <a:srgbClr val="e6b9b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1"/>
            <p:cNvSpPr/>
            <p:nvPr/>
          </p:nvSpPr>
          <p:spPr>
            <a:xfrm flipV="1">
              <a:off x="5257800" y="2590920"/>
              <a:ext cx="914400" cy="380880"/>
            </a:xfrm>
            <a:prstGeom prst="line">
              <a:avLst/>
            </a:prstGeom>
            <a:ln w="57240">
              <a:solidFill>
                <a:srgbClr val="e6b9b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2"/>
            <p:cNvSpPr/>
            <p:nvPr/>
          </p:nvSpPr>
          <p:spPr>
            <a:xfrm flipV="1">
              <a:off x="5257800" y="3352320"/>
              <a:ext cx="914400" cy="38124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3"/>
            <p:cNvSpPr/>
            <p:nvPr/>
          </p:nvSpPr>
          <p:spPr>
            <a:xfrm>
              <a:off x="5257800" y="4115160"/>
              <a:ext cx="914400" cy="38052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25"/>
            <p:cNvSpPr/>
            <p:nvPr/>
          </p:nvSpPr>
          <p:spPr>
            <a:xfrm>
              <a:off x="4343400" y="3733920"/>
              <a:ext cx="936360" cy="3988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MS PGothic"/>
                </a:rPr>
                <a:t>EC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6"/>
            <p:cNvSpPr/>
            <p:nvPr/>
          </p:nvSpPr>
          <p:spPr>
            <a:xfrm flipV="1">
              <a:off x="4419360" y="4114800"/>
              <a:ext cx="304560" cy="53352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19360" y="5182200"/>
              <a:ext cx="380880" cy="53280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8"/>
            <p:cNvSpPr/>
            <p:nvPr/>
          </p:nvSpPr>
          <p:spPr>
            <a:xfrm>
              <a:off x="5334120" y="6096240"/>
              <a:ext cx="609480" cy="75960"/>
            </a:xfrm>
            <a:prstGeom prst="line">
              <a:avLst/>
            </a:prstGeom>
            <a:ln w="57240">
              <a:solidFill>
                <a:srgbClr val="92d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2574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Biological Functions of Calcium</a:t>
            </a:r>
            <a:br>
              <a:rPr sz="29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Content Placeholder 3" descr="C:\Documents and Settings\biocrr\My Documents\Biochem201\Lectures\Dental\Calcium\Scans\Circulating Ca.JPG"/>
          <p:cNvPicPr/>
          <p:nvPr/>
        </p:nvPicPr>
        <p:blipFill>
          <a:blip r:embed="rId1"/>
          <a:stretch/>
        </p:blipFill>
        <p:spPr>
          <a:xfrm>
            <a:off x="798480" y="1255680"/>
            <a:ext cx="7553520" cy="5267520"/>
          </a:xfrm>
          <a:prstGeom prst="rect">
            <a:avLst/>
          </a:prstGeom>
          <a:ln w="0">
            <a:noFill/>
          </a:ln>
        </p:spPr>
      </p:pic>
      <p:sp>
        <p:nvSpPr>
          <p:cNvPr id="162" name="7-Point Star 5"/>
          <p:cNvSpPr/>
          <p:nvPr/>
        </p:nvSpPr>
        <p:spPr>
          <a:xfrm>
            <a:off x="5334120" y="3886200"/>
            <a:ext cx="2590560" cy="1600200"/>
          </a:xfrm>
          <a:prstGeom prst="pi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1143000" y="533520"/>
            <a:ext cx="7010280" cy="7034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Calcium in Bl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5486400" cy="8380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Organ Calcium Homeostasis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Content Placeholder 3" descr=""/>
          <p:cNvPicPr/>
          <p:nvPr/>
        </p:nvPicPr>
        <p:blipFill>
          <a:blip r:embed="rId1">
            <a:lum contrast="6000"/>
          </a:blip>
          <a:srcRect l="0" t="0" r="20006" b="0"/>
          <a:stretch/>
        </p:blipFill>
        <p:spPr>
          <a:xfrm>
            <a:off x="228600" y="1143000"/>
            <a:ext cx="6400800" cy="4952880"/>
          </a:xfrm>
          <a:prstGeom prst="rect">
            <a:avLst/>
          </a:prstGeom>
          <a:ln w="0">
            <a:noFill/>
          </a:ln>
        </p:spPr>
      </p:pic>
      <p:grpSp>
        <p:nvGrpSpPr>
          <p:cNvPr id="166" name="Oval 4"/>
          <p:cNvGrpSpPr/>
          <p:nvPr/>
        </p:nvGrpSpPr>
        <p:grpSpPr>
          <a:xfrm>
            <a:off x="6229440" y="2114640"/>
            <a:ext cx="1639800" cy="2628720"/>
            <a:chOff x="6229440" y="2114640"/>
            <a:chExt cx="1639800" cy="2628720"/>
          </a:xfrm>
        </p:grpSpPr>
        <p:pic>
          <p:nvPicPr>
            <p:cNvPr id="167" name="Oval 4" descr=""/>
            <p:cNvPicPr/>
            <p:nvPr/>
          </p:nvPicPr>
          <p:blipFill>
            <a:blip r:embed="rId2"/>
            <a:stretch/>
          </p:blipFill>
          <p:spPr>
            <a:xfrm>
              <a:off x="6229440" y="2114640"/>
              <a:ext cx="1639800" cy="26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6483240" y="2513160"/>
              <a:ext cx="1130400" cy="18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Picture 7" descr=""/>
          <p:cNvPicPr/>
          <p:nvPr/>
        </p:nvPicPr>
        <p:blipFill>
          <a:blip r:embed="rId3"/>
          <a:stretch/>
        </p:blipFill>
        <p:spPr>
          <a:xfrm>
            <a:off x="6629400" y="1600200"/>
            <a:ext cx="13809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  <a:ea typeface="Calibri"/>
              </a:rPr>
              <a:t>Organ Calcium Homeostasis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Calibri"/>
              </a:rPr>
              <a:t>cont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0880" y="1609200"/>
            <a:ext cx="8229600" cy="4846680"/>
          </a:xfrm>
          <a:prstGeom prst="rect">
            <a:avLst/>
          </a:prstGeom>
          <a:noFill/>
          <a:ln w="9360">
            <a:solidFill>
              <a:srgbClr val="92d050"/>
            </a:solidFill>
            <a:miter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Arial"/>
              </a:rPr>
              <a:t>The concentration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calcium</a:t>
            </a:r>
            <a:r>
              <a:rPr b="0" lang="en-US" sz="2400" spc="-1" strike="noStrike">
                <a:solidFill>
                  <a:srgbClr val="1e4778"/>
                </a:solidFill>
                <a:latin typeface="Calibri"/>
                <a:ea typeface="Arial"/>
              </a:rPr>
              <a:t>,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Arial"/>
              </a:rPr>
              <a:t>phosphorous  &amp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Arial"/>
              </a:rPr>
              <a:t>magnesium in the plasma depends 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ORGAN PHYSIOLOGY</a:t>
            </a:r>
            <a:r>
              <a:rPr b="0" lang="en-US" sz="2400" spc="-1" strike="noStrike">
                <a:solidFill>
                  <a:srgbClr val="1e4778"/>
                </a:solidFill>
                <a:latin typeface="Calibri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778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e47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778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Arial"/>
              </a:rPr>
              <a:t>Net effect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bone</a:t>
            </a:r>
            <a:r>
              <a:rPr b="0" lang="en-US" sz="2400" spc="-1" strike="noStrike">
                <a:solidFill>
                  <a:srgbClr val="1e4778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Arial"/>
              </a:rPr>
              <a:t>mineral deposition &amp; resorp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e47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778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Intestinal</a:t>
            </a:r>
            <a:r>
              <a:rPr b="0" lang="en-US" sz="2400" spc="-1" strike="noStrike">
                <a:solidFill>
                  <a:srgbClr val="1e4778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Arial"/>
              </a:rPr>
              <a:t>absorp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e47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4778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Renal</a:t>
            </a:r>
            <a:r>
              <a:rPr b="0" lang="en-US" sz="2400" spc="-1" strike="noStrike">
                <a:solidFill>
                  <a:srgbClr val="1e4778"/>
                </a:solidFill>
                <a:latin typeface="Calibri"/>
                <a:ea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Arial"/>
              </a:rPr>
              <a:t>excre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0:52:24Z</dcterms:created>
  <dc:creator>Dedia</dc:creator>
  <dc:description/>
  <dc:language>en-US</dc:language>
  <cp:lastModifiedBy>ALWALY</cp:lastModifiedBy>
  <dcterms:modified xsi:type="dcterms:W3CDTF">2013-09-23T16:37:05Z</dcterms:modified>
  <cp:revision>246</cp:revision>
  <dc:subject/>
  <dc:title>Slide 1</dc:title>
</cp:coreProperties>
</file>